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5E8-FADC-4F2C-B816-742C064A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AB5-C76D-493B-BD25-9381337F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535-A478-4A02-9E7E-89DF5AB5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64B-5707-405E-9EC2-75C61A8A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78B-EC1F-4587-BF4D-2E114E0C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B9B3-CCE4-4C58-B3DA-3D05E14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F60-23A7-4221-B360-E7FD775A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CBD9-6318-4232-A7A9-D732B4B3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EDBA-3437-496E-9EEC-DE7A9D7B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28CF-4C49-4181-819A-AEBAD799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3DFA-BE99-4597-8144-ECD81630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C24-6D21-4BDB-9333-BBD47F87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69F8-BFCD-40B1-B376-4BEEA6B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F9D6-D6F0-4965-B707-D0DCFE7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C97B-FFA9-4E3D-8866-CF9EB7FD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9F21-AF34-4BFD-815A-D507825D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23AF-F013-4EE9-87C5-08AA3F42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DC22-F5BC-438D-9D7C-67DAFF19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733F3-74A4-47CB-B168-4C74235D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4F195-4A28-4B31-BA4B-2683410F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8FDA-1847-4B5D-B36B-AD58AD09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B1FD-2848-44E9-965D-88F171B2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507-B451-4B72-8FFD-0EE51CFB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4B11-CF07-4EEF-8504-3903A723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E73F-CAE5-4F6A-AECB-A9C884D0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98B4-4BB5-48FE-9886-08C0778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AE525-7E82-48A2-AD04-4A632C5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75FE-76D1-47EF-84FD-4CA19180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3A6E-1328-4DBD-83FF-4865F66B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A0B5-849B-42D4-914C-7C4C349D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B7EE-03BC-413B-86B3-F17AFFB0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9619-BC3A-4347-B51A-3F3B780D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2772E-3D69-4A06-A603-7FE87011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660-03CA-4170-A69A-719ACF50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A5B55-63A8-4AB9-9568-9FD7778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031A-F990-46D2-8711-6C9AE414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0C134-61B4-4999-8111-571C9321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C7C0-AFAE-42B4-923C-7F18FF96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EB9D-0694-4DB7-83C6-540B474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7370-AE18-4F04-8268-36917D8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ACF66-6FD9-4C66-802A-930E7E6A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B4FC-8653-4859-AE10-C7BB459D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0B087-2514-46B1-8126-4CBAF32F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D3C92-4EEB-43CA-A737-14D7E518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B6D-1970-4A42-BB3F-81AF5FD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09CF-BB08-4F7E-B8BC-D54518A5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6DA6-99A9-4D70-A72A-F17E0C22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05640-ECC2-41ED-A8B5-809D6CAC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857C8-7F29-41CF-A2AE-76C69144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F0892-3739-4E9B-89D6-D65C37F8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8FA38-B734-481E-B274-6ACCA9C6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15DAB-A057-4642-A372-C0D21822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F5FC-DDEA-44A0-91F1-246E472D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679D-4DA5-4FBC-A3A3-49C46658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81AB-4488-438D-821A-34CB63BA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03C-7F1F-4A0E-AFDA-26FBA42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286E3-5A9E-40E8-88B7-920800BC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8BC86-72D6-4275-B78E-674B59A6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70486-2346-4E73-8F46-2299260B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7D942-00E0-4674-AE84-9C778EC2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3CA9A-A8E0-4F03-97F3-78397505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C176C-7F7F-4BCD-8A68-59CE75B4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A145C-C4D1-48B8-AD95-E43334A6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800DB-8ED2-4DF5-A4D6-ABCC832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C2E3A-4653-4733-AA22-40DE132D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0834C-D934-40E9-93B1-DB16D595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838-071B-4E02-B9AB-3105C00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3D6E-DE83-437D-A4B8-CBF9386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67A75-C2C3-4BE7-B921-C19B6804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F221A-E21A-4EF5-8E94-B5008697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AD55B-75A8-4F8B-89B6-9EA7C058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850C6-6B33-4F64-BFD3-F39CC1E3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71B00-D839-4FC4-98CA-A3162969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6A57B-AF3F-41B4-9286-00AD103D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40301-C98C-441A-AA0C-988BCCFA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190E-4920-4CBB-8C10-28B35B19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C6BD-33CC-42A1-B610-DE615B1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C28-7A9D-4FCD-A79F-7ACBE037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A9B6-3643-4B19-8A02-F06C601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B9B03-1E48-4118-AB5C-7AB054D2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9B045-D308-437D-BB63-1601DDDA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5A6F1-06DE-45FC-B249-AC96BD82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3CAA-2986-41D2-8F71-F82E64CE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644-A8B0-4132-9D09-6FCD26D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5069-9C5A-434B-9303-E8F95A3CFF51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205-8DAA-4B0E-A8D1-D058767A210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61A1-C4FC-445F-B285-B9322323B649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4521-ABE4-49DB-8780-E6BAB1658C1B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5FB7-B565-4387-B54E-42D92002BD7E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29A-8C54-4AF2-9F23-6C639283201A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8181-3088-4C86-830F-68FA52825C5E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9668-3905-4F30-9A05-AA234E79446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D6FF-11AC-4435-8110-4A0930AD567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1AFA-2352-4DE8-9123-130574AE2BA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0DC9-3FFB-4B98-8DF9-951CFC38DCA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3BB8-B500-4650-B3DA-6A8F6491AFA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182C-2097-46AA-919D-57E5CDEF3649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09A3-25E6-4F07-976C-2CB70982B81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77320" cy="26085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Poruchy tvorby  vylučování moči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18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20.2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8 zahrnuje pojmy:. Prezentace je zakončena sérií otázek k opakování a je k ní připojen Test XII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819144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oruchy tvorby a vylučování moči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Funkce vylučovací soustav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Udržování stálosti vnitřního prostřed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6:47:33Z</dcterms:created>
  <dc:creator>Veronika</dc:creator>
  <dc:description/>
  <dc:language>en-US</dc:language>
  <cp:lastModifiedBy>Chalupna</cp:lastModifiedBy>
  <dcterms:modified xsi:type="dcterms:W3CDTF">2014-03-31T21:31:11Z</dcterms:modified>
  <cp:revision>59</cp:revision>
  <dc:subject/>
  <dc:title>Snímek 1</dc:title>
</cp:coreProperties>
</file>